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D3AA-04F5-4345-8637-681580FE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C11-FB4C-44C5-842F-D7F2E268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E44E-B311-4FD6-9A96-F5393E5D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9CF-57A9-49BD-BE1F-F714EE78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4DD-A789-49C6-94E1-C03B38A8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E75-42FD-4B85-A5AE-B5D0275E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CCF-DAE7-4F7B-9043-21D6DE5F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D66-3ABD-451C-8AF2-DA0FF44B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0E8-AB76-43F8-9073-25F78A6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12E-FDE5-4357-925E-4C6A5C7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369-DF93-42C1-8351-BF5654B7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8EB-B4FB-44E6-853E-82AE12A1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BDA-2554-488A-A443-9B061407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844-8BBC-470B-9776-A4ABE51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D4A-9621-4CFB-A083-B581FB8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B80-4AF6-43DF-A87E-3B6C4FE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13D9-922F-45F9-8CBA-574FC904E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5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R. Kno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to learn more about technology in the classroom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R. K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Knox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Child Development, U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8900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e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72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 &amp; 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citing news…Having a baby b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s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ot married on the beach…dream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8,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teaching job!  Scared, excited, relieved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tended Tusculum College for teaching certifica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. 04- May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d from the University of T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d from Fulton High! Go Falcon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9" name="Picture 58" descr="C:\Users\jrknox\Desktop\IMG_0019.JPG"/>
          <p:cNvPicPr/>
          <p:nvPr/>
        </p:nvPicPr>
        <p:blipFill>
          <a:blip r:embed="rId5"/>
          <a:stretch/>
        </p:blipFill>
        <p:spPr>
          <a:xfrm>
            <a:off x="152280" y="973080"/>
            <a:ext cx="1673280" cy="125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8" descr="C:\Users\jrknox\Desktop\IMG_0019.JPG"/>
          <p:cNvPicPr/>
          <p:nvPr/>
        </p:nvPicPr>
        <p:blipFill>
          <a:blip r:embed="rId6"/>
          <a:stretch/>
        </p:blipFill>
        <p:spPr>
          <a:xfrm>
            <a:off x="2046240" y="5859360"/>
            <a:ext cx="544680" cy="40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C:\Users\jrknox\Desktop\IMG_0019.JPG"/>
          <p:cNvPicPr/>
          <p:nvPr/>
        </p:nvPicPr>
        <p:blipFill>
          <a:blip r:embed="rId7"/>
          <a:stretch/>
        </p:blipFill>
        <p:spPr>
          <a:xfrm>
            <a:off x="2057400" y="520236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C:\Users\jrknox\Desktop\IMG_0019.JPG"/>
          <p:cNvPicPr/>
          <p:nvPr/>
        </p:nvPicPr>
        <p:blipFill>
          <a:blip r:embed="rId8"/>
          <a:stretch/>
        </p:blipFill>
        <p:spPr>
          <a:xfrm>
            <a:off x="2057400" y="454500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1" descr="C:\Users\jrknox\Desktop\IMG_0019.JPG"/>
          <p:cNvPicPr/>
          <p:nvPr/>
        </p:nvPicPr>
        <p:blipFill>
          <a:blip r:embed="rId9"/>
          <a:stretch/>
        </p:blipFill>
        <p:spPr>
          <a:xfrm>
            <a:off x="2057400" y="392112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2" descr="C:\Users\jrknox\Desktop\IMG_0019.JPG"/>
          <p:cNvPicPr/>
          <p:nvPr/>
        </p:nvPicPr>
        <p:blipFill>
          <a:blip r:embed="rId10"/>
          <a:stretch/>
        </p:blipFill>
        <p:spPr>
          <a:xfrm>
            <a:off x="2046240" y="320040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C:\Users\jrknox\Desktop\IMG_0019.JPG"/>
          <p:cNvPicPr/>
          <p:nvPr/>
        </p:nvPicPr>
        <p:blipFill>
          <a:blip r:embed="rId11"/>
          <a:stretch/>
        </p:blipFill>
        <p:spPr>
          <a:xfrm>
            <a:off x="2057400" y="2600280"/>
            <a:ext cx="544680" cy="40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C:\Users\jrknox\Desktop\IMG_0012.JPG"/>
          <p:cNvPicPr/>
          <p:nvPr/>
        </p:nvPicPr>
        <p:blipFill>
          <a:blip r:embed="rId12"/>
          <a:stretch/>
        </p:blipFill>
        <p:spPr>
          <a:xfrm>
            <a:off x="65160" y="5334120"/>
            <a:ext cx="555480" cy="51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C:\Users\jrknox\Desktop\IMG_0186.JPG"/>
          <p:cNvPicPr/>
          <p:nvPr/>
        </p:nvPicPr>
        <p:blipFill>
          <a:blip r:embed="rId13"/>
          <a:stretch/>
        </p:blipFill>
        <p:spPr>
          <a:xfrm>
            <a:off x="723960" y="5340240"/>
            <a:ext cx="380880" cy="50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C:\Users\jrknox\Desktop\IMG_0194.JPG"/>
          <p:cNvPicPr/>
          <p:nvPr/>
        </p:nvPicPr>
        <p:blipFill>
          <a:blip r:embed="rId14"/>
          <a:stretch/>
        </p:blipFill>
        <p:spPr>
          <a:xfrm>
            <a:off x="1249200" y="5340240"/>
            <a:ext cx="44784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C:\Users\jrknox\Desktop\IMG_0320.JPG"/>
          <p:cNvPicPr/>
          <p:nvPr/>
        </p:nvPicPr>
        <p:blipFill>
          <a:blip r:embed="rId15"/>
          <a:stretch/>
        </p:blipFill>
        <p:spPr>
          <a:xfrm>
            <a:off x="73080" y="6159600"/>
            <a:ext cx="53964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C:\Users\jrknox\Desktop\IMG_0307.JPG"/>
          <p:cNvPicPr/>
          <p:nvPr/>
        </p:nvPicPr>
        <p:blipFill>
          <a:blip r:embed="rId16"/>
          <a:stretch/>
        </p:blipFill>
        <p:spPr>
          <a:xfrm>
            <a:off x="708120" y="6159600"/>
            <a:ext cx="43488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C:\Users\jrknox\Desktop\IMG_0270.JPG"/>
          <p:cNvPicPr/>
          <p:nvPr/>
        </p:nvPicPr>
        <p:blipFill>
          <a:blip r:embed="rId17"/>
          <a:stretch/>
        </p:blipFill>
        <p:spPr>
          <a:xfrm>
            <a:off x="1219320" y="6164280"/>
            <a:ext cx="5349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R. Knox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to learn more about technology in the classro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R. K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Knox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Child Development, U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Kno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B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iam, set to arrive December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eaching, boating with the family, and watching reality tele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oing to the movies, spending time with family, and scrapboo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, Pop, and R&amp;B mus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ll of the Twilight movies, Horrible Bosses, My Best Friend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edding, and Talladega N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g Brother, Teen Mom, The Apprentice, American Idol, an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ything else that is a reality TV show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 series, LA Candy, The Cat in the Hat, and First Day Jit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rip to NY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-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291-71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jknox42@students.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58" descr="C:\Users\jrknox\Desktop\IMG_0019.JPG"/>
          <p:cNvPicPr/>
          <p:nvPr/>
        </p:nvPicPr>
        <p:blipFill>
          <a:blip r:embed="rId2"/>
          <a:stretch/>
        </p:blipFill>
        <p:spPr>
          <a:xfrm>
            <a:off x="152280" y="973080"/>
            <a:ext cx="1673280" cy="125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C:\Users\jrknox\Desktop\DSC05930.JPG"/>
          <p:cNvPicPr/>
          <p:nvPr/>
        </p:nvPicPr>
        <p:blipFill>
          <a:blip r:embed="rId3"/>
          <a:stretch/>
        </p:blipFill>
        <p:spPr>
          <a:xfrm>
            <a:off x="104760" y="5330880"/>
            <a:ext cx="781200" cy="58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9" descr="C:\Users\jrknox\Desktop\IMG_0012.JPG"/>
          <p:cNvPicPr/>
          <p:nvPr/>
        </p:nvPicPr>
        <p:blipFill>
          <a:blip r:embed="rId4"/>
          <a:stretch/>
        </p:blipFill>
        <p:spPr>
          <a:xfrm>
            <a:off x="104760" y="5970600"/>
            <a:ext cx="78120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R. K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NYC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3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ssica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0969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chool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1190520" y="56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R. Knox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excited to learn more about technology in the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58" descr="C:\Users\jrknox\Desktop\IMG_0019.JPG"/>
          <p:cNvPicPr/>
          <p:nvPr/>
        </p:nvPicPr>
        <p:blipFill>
          <a:blip r:embed="rId2"/>
          <a:stretch/>
        </p:blipFill>
        <p:spPr>
          <a:xfrm>
            <a:off x="279360" y="485640"/>
            <a:ext cx="812880" cy="60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C:\Users\jrknox\Desktop\DSC05730.JPG"/>
          <p:cNvPicPr/>
          <p:nvPr/>
        </p:nvPicPr>
        <p:blipFill>
          <a:blip r:embed="rId3"/>
          <a:stretch/>
        </p:blipFill>
        <p:spPr>
          <a:xfrm>
            <a:off x="812880" y="1914480"/>
            <a:ext cx="1244520" cy="93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C:\Users\jrknox\Desktop\DSC05742.JPG"/>
          <p:cNvPicPr/>
          <p:nvPr/>
        </p:nvPicPr>
        <p:blipFill>
          <a:blip r:embed="rId4"/>
          <a:stretch/>
        </p:blipFill>
        <p:spPr>
          <a:xfrm>
            <a:off x="2340000" y="1905120"/>
            <a:ext cx="1251000" cy="93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C:\Users\jrknox\Desktop\DSC05902.JPG"/>
          <p:cNvPicPr/>
          <p:nvPr/>
        </p:nvPicPr>
        <p:blipFill>
          <a:blip r:embed="rId5"/>
          <a:stretch/>
        </p:blipFill>
        <p:spPr>
          <a:xfrm>
            <a:off x="3809880" y="187632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C:\Users\jrknox\Desktop\DSC05740.JPG"/>
          <p:cNvPicPr/>
          <p:nvPr/>
        </p:nvPicPr>
        <p:blipFill>
          <a:blip r:embed="rId6"/>
          <a:stretch/>
        </p:blipFill>
        <p:spPr>
          <a:xfrm>
            <a:off x="762120" y="33195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C:\Users\jrknox\Desktop\DSC05804.JPG"/>
          <p:cNvPicPr/>
          <p:nvPr/>
        </p:nvPicPr>
        <p:blipFill>
          <a:blip r:embed="rId7"/>
          <a:stretch/>
        </p:blipFill>
        <p:spPr>
          <a:xfrm>
            <a:off x="2133720" y="3259080"/>
            <a:ext cx="1466640" cy="1101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C:\Users\jrknox\Desktop\DSC05765.JPG"/>
          <p:cNvPicPr/>
          <p:nvPr/>
        </p:nvPicPr>
        <p:blipFill>
          <a:blip r:embed="rId8"/>
          <a:stretch/>
        </p:blipFill>
        <p:spPr>
          <a:xfrm>
            <a:off x="3657600" y="3243240"/>
            <a:ext cx="1490760" cy="1117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0" descr="C:\Users\jrknox\Desktop\IMG_0186.JPG"/>
          <p:cNvPicPr/>
          <p:nvPr/>
        </p:nvPicPr>
        <p:blipFill>
          <a:blip r:embed="rId9"/>
          <a:stretch/>
        </p:blipFill>
        <p:spPr>
          <a:xfrm>
            <a:off x="785880" y="5046840"/>
            <a:ext cx="809640" cy="1077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6" descr="C:\Users\jrknox\Desktop\DSC05958.JPG"/>
          <p:cNvPicPr/>
          <p:nvPr/>
        </p:nvPicPr>
        <p:blipFill>
          <a:blip r:embed="rId10"/>
          <a:stretch/>
        </p:blipFill>
        <p:spPr>
          <a:xfrm>
            <a:off x="2025720" y="5103720"/>
            <a:ext cx="1282680" cy="963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8" descr="C:\Users\jrknox\Desktop\IMG_0019.JPG"/>
          <p:cNvPicPr/>
          <p:nvPr/>
        </p:nvPicPr>
        <p:blipFill>
          <a:blip r:embed="rId11"/>
          <a:stretch/>
        </p:blipFill>
        <p:spPr>
          <a:xfrm>
            <a:off x="3600360" y="5251320"/>
            <a:ext cx="1089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ministrator</cp:lastModifiedBy>
  <dcterms:modified xsi:type="dcterms:W3CDTF">2011-09-01T18:16:18Z</dcterms:modified>
  <cp:revision>39</cp:revision>
  <dc:subject/>
  <dc:title>Profile</dc:title>
</cp:coreProperties>
</file>